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FCA-17C8-42D3-A558-FF846012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D89-EA8F-4EBF-8BA5-A609EAB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8C9-5FAD-412B-88E5-FA06E4C3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96D-495E-4065-AF3A-046B8A39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3CD-B58D-4D47-961A-E30D9B3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57E-5A51-4494-B7F0-676C8DAA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0AF-9D8F-4699-AF23-B9E78CA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9BD-AFE6-4238-BFA6-937C973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711-F082-418D-AD9F-1D43AE34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CCE-A3DA-43D7-A68D-D296B9D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E9A-77B3-4EDD-B63A-4E885CC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1C7-0111-4809-AB11-53B12B8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34C-BBE5-43F7-AC83-21AB6C2E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search/category_search.php?t=v&amp;i=171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epperso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914400"/>
            <a:ext cx="6553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psic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9528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105520"/>
            <a:ext cx="358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uncing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search/category_search.php?t=v&amp;i=1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17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Epperson"/>
          <p:cNvPicPr/>
          <p:nvPr/>
        </p:nvPicPr>
        <p:blipFill>
          <a:blip r:embed="rId1"/>
          <a:stretch/>
        </p:blipFill>
        <p:spPr>
          <a:xfrm>
            <a:off x="533520" y="609480"/>
            <a:ext cx="7086600" cy="2762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457200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psicl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0,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eppers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ppersons famous i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Frank Epp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k was raised in San Franci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person also made a soft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quiet popular at 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d his rights to the popsicle to Joe L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ops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ccidently left a stirring stick in his soft drink, and when he woke up, it was froz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roze because he left it on his porch over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e in a variety of color and fl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sicles are not hard to make as Epperson 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how the popsicle w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19:04Z</dcterms:created>
  <dc:creator>install</dc:creator>
  <dc:description/>
  <dc:language>en-US</dc:language>
  <cp:lastModifiedBy>install</cp:lastModifiedBy>
  <dcterms:modified xsi:type="dcterms:W3CDTF">2010-03-18T13:40:57Z</dcterms:modified>
  <cp:revision>5</cp:revision>
  <dc:subject/>
  <dc:title>Slide 1</dc:title>
</cp:coreProperties>
</file>